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F913-2F27-4B6D-AF91-DFDE93084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5554-3555-44C9-8B56-300FF32E0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EC1A-AC08-437C-AAB8-6C70F2CB3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0975-3439-4B15-B5C6-FCDA6F472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7E64-9D43-43F9-B608-4AB70D37B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F80B-F765-47DD-AF26-BA7D29629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CE1-E696-4C69-AFD2-20A21324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8C5-B36D-4BE0-A517-16929230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A7A-26C4-4151-9A91-58510345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F64-7344-4E1E-8FFA-BCD668D9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23E-F8C9-4C3C-BAA9-75740056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A59-BD04-497A-AB18-01AB8054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FA5-44A1-4073-8CCB-FFADF196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0CE-D50C-4CC4-9C77-75C1AE92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C52-3231-40DF-9B79-82EFDC6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8DB-BC76-4A80-9AA9-57E77E8A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130-4658-40BE-ADD3-9A0E1C87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5EC-8383-4768-B562-DB1365D1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3"/>
          <p:cNvSpPr/>
          <p:nvPr/>
        </p:nvSpPr>
        <p:spPr>
          <a:xfrm>
            <a:off x="1523880" y="6400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48"/>
          <p:cNvSpPr/>
          <p:nvPr/>
        </p:nvSpPr>
        <p:spPr>
          <a:xfrm>
            <a:off x="533520" y="647712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822e"/>
                </a:solidFill>
                <a:latin typeface="Arial"/>
              </a:rPr>
              <a:t>Ninth Annual Conference on Carbon Capture &amp; Seque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305E-484B-455D-AF9C-44BE54D08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13"/>
          <p:cNvSpPr/>
          <p:nvPr/>
        </p:nvSpPr>
        <p:spPr>
          <a:xfrm>
            <a:off x="1523880" y="6400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8"/>
          <p:cNvSpPr/>
          <p:nvPr/>
        </p:nvSpPr>
        <p:spPr>
          <a:xfrm>
            <a:off x="533520" y="647712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822e"/>
                </a:solidFill>
                <a:latin typeface="Arial"/>
              </a:rPr>
              <a:t>Ninth Annual Conference on Carbon Capture &amp; Seque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3"/>
          <p:cNvSpPr/>
          <p:nvPr/>
        </p:nvSpPr>
        <p:spPr>
          <a:xfrm>
            <a:off x="1523880" y="6400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6858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ighth Annual Conference o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bon Capture &amp; Sequestrati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4051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ssion Tit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35370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per Tit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066680" y="586440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4 -7, 2009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heraton Station Square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ittsburgh, Pennsylv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8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0" y="4754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hors’ 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0" y="6168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ed PC power 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571680" y="610704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ified from “Cost and Performance Baseline for Fossil Energy Plants Volume 1: Bituminous Coal and Natural Gas to Electricity” – NETL REPORT – 2007/12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2000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838080" y="1689120"/>
            <a:ext cx="4724640" cy="25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O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5613480" y="1498680"/>
            <a:ext cx="1778040" cy="167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728800" y="4343400"/>
            <a:ext cx="4572000" cy="1676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TEAM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iler 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ed with 14 ASPEN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i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ed as RSTOIC  - A DECOMP block is also inclu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el - Illinois # 6 Coal - 75.21 kg/sec  - Oxidant – Air – 796 kg/s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iler  Pressure /Temperature – 14.01psia/270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h Rem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ed as Flash D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s 20% of solid ash in the feed - Added to model the removal of ash from the boi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g H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ed as Flash Drum - Removes remaining ash  &amp; particulates in the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sure drop of ~0.2 p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iler 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ue Gas Desulfurization unit - FG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ed as an RSTO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2/SO2 ratio to 1.1 ; CaCO3/SO2 ratio to 1.04 ; slurry mixture is set at 30% solids – design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8% of the SO2 is reacted to form CO2 and gyps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ypsum Rem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ed as a flash dr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model the removal of gypsum, MgCO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CaCO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inert materials from the FGD outlet str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ue Gas split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lits the flue gas into five equal streams to be fed to the Carbon captur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am 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am Cycle – Super Critic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sure - 3514.7 ps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mperature – 1110 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am Turbine – Three Sections –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Pressure - 3514.7 psi/1110 °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mediate Pressure - 654 psig/1150°F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essure - 138 psig/717°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am condensed &amp; recycled as Feed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 water heat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 feed water heaters &amp; a deaer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cury from C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or block Mercu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.21 mg/kg of c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in Fort.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1:24:59Z</dcterms:created>
  <dc:creator>diwekar</dc:creator>
  <dc:description/>
  <dc:language>en-US</dc:language>
  <cp:lastModifiedBy>Administrator</cp:lastModifiedBy>
  <dcterms:modified xsi:type="dcterms:W3CDTF">2016-10-29T10:44:44Z</dcterms:modified>
  <cp:revision>93</cp:revision>
  <dc:subject/>
  <dc:title>WCM Decisionmakers’ Forum</dc:title>
</cp:coreProperties>
</file>